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07E-2568-4400-A080-8E235E81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168-97DD-499B-A49F-542F373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257-7D33-45A1-9533-DCEB4E23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F83-47FC-4E4D-AF34-E3951816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B1B-DA62-4CBA-B5EA-CA4E458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1B1-A88F-4197-8FDF-1753EDFC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F60-1C3D-4C9C-BE3E-924699BD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3CC-EB4F-4356-AD2E-AAED9CC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6A0-C3EC-4422-98DC-81ADF30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BEF-C22B-44BD-BD84-475E32C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004-7A8C-48B8-A148-874B277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565-1C5F-4A86-890C-852DB4A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6F5D-A539-4CB0-AFEF-3C773802F0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3284280"/>
            <a:ext cx="5435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َلمجدُ ل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66920" y="14292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360" y="0"/>
            <a:ext cx="5003640" cy="127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ّي أبشركُ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فرحٍ عظ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ُلِدَ لنا مخلّص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و المسيح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الشعبُ السالِكُ في الظُلمَ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933720"/>
            <a:ext cx="5297400" cy="32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أبصَرَ نوراً عظيم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86728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عُمْيُ يُبصِرون والموتى يقومون والأسرى يُطلَقون والمساكينُ يُبشَّر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1:05:11Z</dcterms:created>
  <dc:creator>Charbel Azar</dc:creator>
  <dc:description/>
  <dc:language>en-US</dc:language>
  <cp:lastModifiedBy>ف</cp:lastModifiedBy>
  <dcterms:modified xsi:type="dcterms:W3CDTF">2006-07-11T10:22:57Z</dcterms:modified>
  <cp:revision>4</cp:revision>
  <dc:subject/>
  <dc:title>ألمجد لك</dc:title>
</cp:coreProperties>
</file>